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BA05-EDE3-4C1E-9D5C-2C785B54A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C961-B11D-432D-87E6-C7D72DD764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9B3-EAE6-410F-9253-E4C2A769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B0F-F5EE-49F8-955C-979AF03C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9EF-B54F-4E43-80FD-8F141DB3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60D-1B3B-4998-B6C7-BE0D49CC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D3D-C04E-4033-B856-946C91F5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5F2-D19A-4A99-BC97-C6F510D0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4A9-169B-42E8-AE86-B54B0A27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477-FFF7-44A8-B406-0AA1F85C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051-AC28-47B8-BDAE-D6AB0DF9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FFBA-4B84-4B27-9B37-A125E8F7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B669-F71B-4775-98C2-2F542B1B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AAF-B814-4AAE-88DC-A7EF4E15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2614-1CD6-4CD2-86DD-55A3E81DD0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Administrator\Local Settings\Temporary Internet Files\Content.IE5\2QEQ1ZX6\MCj04382510000[1].wmf"/>
          <p:cNvPicPr/>
          <p:nvPr/>
        </p:nvPicPr>
        <p:blipFill>
          <a:blip r:embed="rId2"/>
          <a:stretch/>
        </p:blipFill>
        <p:spPr>
          <a:xfrm>
            <a:off x="1554120" y="1295280"/>
            <a:ext cx="585936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What Goes Up Must Come Dow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312408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A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Jester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Century Learning Experience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eresa Cannady, Kay Jones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Gladys Jones, Brenna Taka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Request for Feedba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ways to help students write a script for their video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help assessing students’ higher order thinking ski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371600" y="746280"/>
            <a:ext cx="6705720" cy="5203800"/>
          </a:xfrm>
          <a:prstGeom prst="rect">
            <a:avLst/>
          </a:prstGeom>
          <a:ln w="0">
            <a:noFill/>
          </a:ln>
        </p:spPr>
      </p:pic>
      <p:pic>
        <p:nvPicPr>
          <p:cNvPr id="71" name="MSSN00435A0000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Jester"/>
              </a:rPr>
              <a:t>Weather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Jester"/>
              </a:rPr>
              <a:t>Unit Summar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sing prior knowledge of weather students will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ticipate in a weather web ques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gage in  interactive notebook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ory and post it on a blog or wik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 a weather instru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udent  video productio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Curriculum-Framing Ques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Essential Ques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y is change necessary?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Uni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the water cycle and weather related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es weather affect our everyday life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Conten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precipitatio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cribe the water cyc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are weather instruments used to measure and record weather data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y do we have storms and how are they creat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clouds and are they associated with the type of weather we hav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hat Goes Up Must Come Dow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eather Video Produ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roduction will help students develop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entury skills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rough the use of digital technology students will communicate their understanding  of weather by collaborating with their peers and producing a weather video. This will also enhance their creative writing and communication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Documents and Settings\Administrator\Local Settings\Temporary Internet Files\Content.IE5\7QDTM1KA\MCj04315970000[1].png"/>
          <p:cNvPicPr/>
          <p:nvPr/>
        </p:nvPicPr>
        <p:blipFill>
          <a:blip r:embed="rId2"/>
          <a:stretch/>
        </p:blipFill>
        <p:spPr>
          <a:xfrm>
            <a:off x="762012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Program Files\Microsoft Office\MEDIA\CAGCAT10\j0293828.wmf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522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urpose of the Assess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To gather information about what students already know, what they want to know and what they learned about wea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hat I want to Learn from my students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find out what they already know about how the water cycle and weather are related and how weather affects our everyday liv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con’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I have tried to promote higher order thinking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know if students can synthesize  the stages of the water cycle and  analyze its effect on wea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the assessment information helps me and my students plan for upcoming  activities in the uni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We will revisit this assessment throughout the unit for students to add their knowled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Our  Goals for the Cour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ways to get students to apply their knowledge of weather in their everyday l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about the different kinds of technology  availab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re ideas with other teac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Student Go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how meteorologists collect and apply their data to predict wea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become more independent learn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6:23:23Z</dcterms:created>
  <dc:creator> </dc:creator>
  <dc:description/>
  <dc:language>en-US</dc:language>
  <cp:lastModifiedBy>pcs</cp:lastModifiedBy>
  <dcterms:modified xsi:type="dcterms:W3CDTF">2009-05-28T16:46:45Z</dcterms:modified>
  <cp:revision>30</cp:revision>
  <dc:subject/>
  <dc:title>What Goes Up Must Come Down</dc:title>
</cp:coreProperties>
</file>